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57E-39E0-441D-8BE5-120ACB44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576-3E5D-44E6-9D5D-A481D6A8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ABB0-96E5-45D0-93FD-F75C1D94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04A5-DB6B-43A8-88F1-55C5B546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DF3-75E5-405B-805D-C52583B7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380-CEBD-495D-A26D-75A9816C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41A-0443-451B-A4A5-BD2B7D2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EBA4-BCFC-48E3-A8E0-4EF889D9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99A6-718A-4601-980F-85E04221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50D-6C98-4335-ABFE-D39CE34C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94EE-0964-4D6B-B04E-648F395F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2BE4-01FD-4FF7-BB9F-0921771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7B36-2B2E-4DAC-AFDA-D808363EB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ator Lab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3504960" cy="2463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105520" y="4038480"/>
            <a:ext cx="3809880" cy="243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3492360" cy="2209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34120" y="304920"/>
            <a:ext cx="3429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ct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istant m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urvived &amp; reproduc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ile others were wiped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ime, only those with resistance ar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rs that blended into the fabric were most successful - hidden from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is was expected because protective coloring is an adaptation for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 - the colors that stood out against the fabric went down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+ too many other variables that would be  difficult to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ariation that helps an organism survive &amp; reproduce in its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that were camoflaged lived longer and had more off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ne or in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d or hid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ght vs.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ation (ex: white hare w/o snow cov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ridge in trees after leaves fall =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t season/dry season (in drought, animals must approach water hole even though predators are likely to be there t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vailabli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ators reduce competition = more food, habitat &amp; mates for those that re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ators remove sick &amp; old = healthy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6aff"/>
            </a:gs>
            <a:gs pos="100000">
              <a:srgbClr val="878d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al pollution turned the trees black &amp; the darker variety survived &amp; reproduced at much greater rates than the lighter var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5:53:48Z</dcterms:created>
  <dc:creator>NHS NPS</dc:creator>
  <dc:description/>
  <dc:language>en-US</dc:language>
  <cp:lastModifiedBy>NHS NPS</cp:lastModifiedBy>
  <dcterms:modified xsi:type="dcterms:W3CDTF">2014-03-21T16:13:05Z</dcterms:modified>
  <cp:revision>2</cp:revision>
  <dc:subject/>
  <dc:title>Predator Lab</dc:title>
</cp:coreProperties>
</file>